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16.png" ContentType="image/png"/>
  <Override PartName="/ppt/media/image13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D4AC-65A6-44F6-87C3-BB1537D2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D39C-25D4-4A37-98C3-FF6437B0F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A866-B297-4995-826D-51AC4647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5FB-3564-4B5F-AB2C-325841AB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E39-17BD-4CCF-9602-CD7AE191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EB8B-EE96-4F6E-AFA0-1B84C7D8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A3E-139A-4A06-9EE3-C249F4ED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189D-CF9D-4130-8A74-D99271FA9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6780-CB24-4573-A359-F5275654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7C55-6318-48D9-BBAA-3A348226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4C8-36FF-432B-A8BC-B5FD9465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DFD-2B2C-472A-B8FB-C7084D71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B88-E014-47B2-80DF-D786BFE2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6A3-00FB-4511-B288-6947168C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98C6-76E7-4469-A1B9-75CA90961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13E-77B3-4BFA-B798-493F3A972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D1E-59D9-4A58-AE2D-18362313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5A2-644F-454A-9579-2499F0C82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2EB-6F86-4A1B-9D6F-4A4BB6B8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30C-DC1B-4CF4-BC63-ACEB713A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05D8-8DC9-45F5-86A2-2687AAF5E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D0E-3EB7-4645-B8ED-0EA154A5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16B4-F019-4FEE-93E5-309E4563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4EB-B511-47BC-AA60-70F2D152E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0D4-DF5D-49E7-B530-AD12E20E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5880-40B4-4265-853F-EE87BBDF1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90E-F88C-4E1C-947E-AC6F417C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BED-B95E-4357-ADB2-843B3144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316-EAA0-4D15-8325-F3A27E51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81E-3FCC-43B5-A5AE-F894E6EC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04A-DA7B-4CF9-B908-74B339A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ED3-4724-4801-A05B-2DC680B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992-F992-4EAC-A997-7EFECFBB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930-745B-4BE2-86E9-ACF1A74D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F44-3F05-4561-AA50-F38DAF2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0D5-BCBD-45D8-82F7-2CC48CD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A22-8AA8-425A-87F2-3F61E38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1DB-ABD3-4FBA-BE24-AABB755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66D-22FA-4813-8D26-CE4281D0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0" Type="http://schemas.openxmlformats.org/officeDocument/2006/relationships/image" Target="../media/image4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.wmf"/><Relationship Id="rId23" Type="http://schemas.openxmlformats.org/officeDocument/2006/relationships/hyperlink" Target="http://images.google.co.uk/imgres?imgurl=http://www.tjphotography.co.uk/gallery/Food%2520And%2520Drink/slides/Red%2520Pepper.jpg&amp;imgrefurl=http://www.tjphotography.co.uk/gallery/Food%2520And%2520Drink/slides/Red%2520Pepper.html&amp;h=366&amp;w=550&amp;sz=54&amp;hl=en&amp;start=2&amp;sig2=1OqXSv_AbONZ6Dr_DExjoA&amp;um=1&amp;usg=__zDWEp2yk5SdhfSF4xogbIzKreVI=&amp;tbnid=dKuDvU5wEsyqqM:&amp;tbnh=89&amp;tbnw=133&amp;ei=Eir_SKKKAZDOwQHO1ZX8AQ&amp;prev=/images%3Fq%3Da%2Bred%2Bpepper%26um%3D1%26hl%3Den%26rlz%3D1T4GGIH_en-GBGB261GB261" TargetMode="Externa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0" Type="http://schemas.openxmlformats.org/officeDocument/2006/relationships/image" Target="../media/image4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.wmf"/><Relationship Id="rId23" Type="http://schemas.openxmlformats.org/officeDocument/2006/relationships/image" Target="../media/image3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jphotography.co.uk/gallery/Food%2520And%2520Drink/slides/Red%2520Pepper.jpg&amp;imgrefurl=http://www.tjphotography.co.uk/gallery/Food%2520And%2520Drink/slides/Red%2520Pepper.html&amp;h=366&amp;w=550&amp;sz=54&amp;hl=en&amp;start=2&amp;sig2=1OqXSv_AbONZ6Dr_DExjoA&amp;um=1&amp;usg=__zDWEp2yk5SdhfSF4xogbIzKreVI=&amp;tbnid=dKuDvU5wEsyqqM:&amp;tbnh=89&amp;tbnw=133&amp;ei=Eir_SKKKAZDOwQHO1ZX8AQ&amp;prev=/images%3Fq%3Da%2Bred%2Bpepper%26um%3D1%26hl%3Den%26rlz%3D1T4GGIH_en-GBGB261GB26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85840" y="2000160"/>
            <a:ext cx="38574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uele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 gusta 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asquer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bien para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delic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refiero comer caram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be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para ayudar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929120" y="2000160"/>
            <a:ext cx="3857760" cy="417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 like to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g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de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to help you concen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 taste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 prefer eating sw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good for the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 smells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85880" y="214200"/>
            <a:ext cx="77868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comida y las opi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parejas, conecta el ingl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s y el españ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2590920" y="1523880"/>
          <a:ext cx="365904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523880"/>
                    <a:ext cx="36590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1619280" y="4508640"/>
            <a:ext cx="531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guisan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514600" y="1752480"/>
          <a:ext cx="410688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10688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3"/>
          <p:cNvSpPr/>
          <p:nvPr/>
        </p:nvSpPr>
        <p:spPr>
          <a:xfrm>
            <a:off x="438120" y="4797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champiñ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362320" y="1676520"/>
          <a:ext cx="41418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1418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3"/>
          <p:cNvSpPr/>
          <p:nvPr/>
        </p:nvSpPr>
        <p:spPr>
          <a:xfrm>
            <a:off x="2096640" y="5181480"/>
            <a:ext cx="62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plátan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981080" y="2057400"/>
          <a:ext cx="5562720" cy="21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556272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1670400" y="5105520"/>
            <a:ext cx="72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zanaho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3200400" y="457200"/>
          <a:ext cx="2855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2855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3"/>
          <p:cNvSpPr/>
          <p:nvPr/>
        </p:nvSpPr>
        <p:spPr>
          <a:xfrm>
            <a:off x="1332000" y="4076640"/>
            <a:ext cx="337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uv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2819520" y="1581120"/>
          <a:ext cx="384012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81120"/>
                    <a:ext cx="384012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3"/>
          <p:cNvSpPr/>
          <p:nvPr/>
        </p:nvSpPr>
        <p:spPr>
          <a:xfrm>
            <a:off x="2573280" y="4952880"/>
            <a:ext cx="50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fres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195640" y="4292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211640" y="436572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16"/>
          <p:cNvGraphicFramePr/>
          <p:nvPr/>
        </p:nvGraphicFramePr>
        <p:xfrm>
          <a:off x="4932360" y="1052640"/>
          <a:ext cx="12477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052640"/>
                    <a:ext cx="12477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7"/>
          <p:cNvGraphicFramePr/>
          <p:nvPr/>
        </p:nvGraphicFramePr>
        <p:xfrm>
          <a:off x="900000" y="907920"/>
          <a:ext cx="981360" cy="12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907920"/>
                    <a:ext cx="9813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8"/>
          <p:cNvSpPr/>
          <p:nvPr/>
        </p:nvSpPr>
        <p:spPr>
          <a:xfrm>
            <a:off x="4211640" y="602136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195640" y="515772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2195640" y="602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4211640" y="515772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2"/>
          <p:cNvGraphicFramePr/>
          <p:nvPr/>
        </p:nvGraphicFramePr>
        <p:xfrm>
          <a:off x="250920" y="2276640"/>
          <a:ext cx="186984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276640"/>
                    <a:ext cx="18698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23"/>
          <p:cNvGraphicFramePr/>
          <p:nvPr/>
        </p:nvGraphicFramePr>
        <p:xfrm>
          <a:off x="4788000" y="2205000"/>
          <a:ext cx="12016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2205000"/>
                    <a:ext cx="120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4"/>
          <p:cNvGraphicFramePr/>
          <p:nvPr/>
        </p:nvGraphicFramePr>
        <p:xfrm>
          <a:off x="4932360" y="3213000"/>
          <a:ext cx="1481040" cy="94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360" y="3213000"/>
                    <a:ext cx="148104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5"/>
          <p:cNvGraphicFramePr/>
          <p:nvPr/>
        </p:nvGraphicFramePr>
        <p:xfrm>
          <a:off x="5003640" y="4076640"/>
          <a:ext cx="104472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4076640"/>
                    <a:ext cx="10447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6"/>
          <p:cNvGraphicFramePr/>
          <p:nvPr/>
        </p:nvGraphicFramePr>
        <p:xfrm>
          <a:off x="971640" y="3141720"/>
          <a:ext cx="952560" cy="93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3141720"/>
                    <a:ext cx="9525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7"/>
          <p:cNvGraphicFramePr/>
          <p:nvPr/>
        </p:nvGraphicFramePr>
        <p:xfrm>
          <a:off x="826920" y="4005360"/>
          <a:ext cx="927360" cy="95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6920" y="4005360"/>
                    <a:ext cx="9273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8"/>
          <p:cNvGraphicFramePr/>
          <p:nvPr/>
        </p:nvGraphicFramePr>
        <p:xfrm>
          <a:off x="539640" y="4941720"/>
          <a:ext cx="134640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4941720"/>
                    <a:ext cx="13464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30" descr="orange-slic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55640" y="5805360"/>
            <a:ext cx="107640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31"/>
          <p:cNvGraphicFramePr/>
          <p:nvPr/>
        </p:nvGraphicFramePr>
        <p:xfrm>
          <a:off x="5003640" y="4941720"/>
          <a:ext cx="10191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7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3640" y="4941720"/>
                    <a:ext cx="1019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33" descr="Red%2520Pepper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59280" y="5805360"/>
            <a:ext cx="14414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68360" y="1890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 u="sng">
                <a:solidFill>
                  <a:srgbClr val="000000"/>
                </a:solidFill>
                <a:uFillTx/>
                <a:latin typeface="Arial"/>
              </a:rPr>
              <a:t>¿de, en, c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a tort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chocolat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of, as in flav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 zumo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manz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l pescado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vino blanco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in, as in a s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La frut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z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La carne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ensalada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with, accompani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a paell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 in tomato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rne en to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with gra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escado con u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ad with ha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nsalada con j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155736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basic opinions with fo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2 items of fruit and ve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use de, en and c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3333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M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me 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EBYLCCEL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reakfast on bacon and cereals with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ayuno el ba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y los cereales con el 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UMEDYEBP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e is delicious and is good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 manzana es delici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bien para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ECFP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lly like eating fruit because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 encanta comer fruta porque sabe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MGLCPH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like beer because it sme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me gusta la cerveza porque huele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ta y ver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6"/>
          <p:cNvGraphicFramePr/>
          <p:nvPr/>
        </p:nvGraphicFramePr>
        <p:xfrm>
          <a:off x="4932360" y="1052640"/>
          <a:ext cx="12477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052640"/>
                    <a:ext cx="12477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900000" y="907920"/>
          <a:ext cx="981360" cy="12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907920"/>
                    <a:ext cx="9813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22"/>
          <p:cNvGraphicFramePr/>
          <p:nvPr/>
        </p:nvGraphicFramePr>
        <p:xfrm>
          <a:off x="2340000" y="1268280"/>
          <a:ext cx="187020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1268280"/>
                    <a:ext cx="18702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3"/>
          <p:cNvGraphicFramePr/>
          <p:nvPr/>
        </p:nvGraphicFramePr>
        <p:xfrm>
          <a:off x="6732720" y="1125360"/>
          <a:ext cx="120168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1125360"/>
                    <a:ext cx="12016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4"/>
          <p:cNvGraphicFramePr/>
          <p:nvPr/>
        </p:nvGraphicFramePr>
        <p:xfrm>
          <a:off x="4643280" y="2421000"/>
          <a:ext cx="148140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2421000"/>
                    <a:ext cx="14814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5"/>
          <p:cNvGraphicFramePr/>
          <p:nvPr/>
        </p:nvGraphicFramePr>
        <p:xfrm>
          <a:off x="6804000" y="2421000"/>
          <a:ext cx="104472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4000" y="2421000"/>
                    <a:ext cx="10447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6"/>
          <p:cNvGraphicFramePr/>
          <p:nvPr/>
        </p:nvGraphicFramePr>
        <p:xfrm>
          <a:off x="971640" y="2349360"/>
          <a:ext cx="952560" cy="93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2349360"/>
                    <a:ext cx="952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7"/>
          <p:cNvGraphicFramePr/>
          <p:nvPr/>
        </p:nvGraphicFramePr>
        <p:xfrm>
          <a:off x="2411280" y="2349360"/>
          <a:ext cx="927360" cy="95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11280" y="2349360"/>
                    <a:ext cx="92736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8"/>
          <p:cNvGraphicFramePr/>
          <p:nvPr/>
        </p:nvGraphicFramePr>
        <p:xfrm>
          <a:off x="2484360" y="3716280"/>
          <a:ext cx="134640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4360" y="3716280"/>
                    <a:ext cx="1346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29" descr="orange-slic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971640" y="3716280"/>
            <a:ext cx="107640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30"/>
          <p:cNvGraphicFramePr/>
          <p:nvPr/>
        </p:nvGraphicFramePr>
        <p:xfrm>
          <a:off x="5148360" y="3500280"/>
          <a:ext cx="10191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48360" y="3500280"/>
                    <a:ext cx="1019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31" descr="Red%2520Pepper"/>
          <p:cNvPicPr/>
          <p:nvPr/>
        </p:nvPicPr>
        <p:blipFill>
          <a:blip r:embed="rId23"/>
          <a:stretch/>
        </p:blipFill>
        <p:spPr>
          <a:xfrm>
            <a:off x="6588000" y="3789360"/>
            <a:ext cx="14414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ta y ver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048120" y="838080"/>
          <a:ext cx="334332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838080"/>
                    <a:ext cx="334332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2467440" y="5105520"/>
            <a:ext cx="46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tom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3200400" y="1447920"/>
          <a:ext cx="29192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29192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2793600" y="5257800"/>
            <a:ext cx="39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li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419560" y="5105520"/>
            <a:ext cx="54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pimien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Red%2520Pep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568520"/>
            <a:ext cx="45370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574000" y="5257800"/>
            <a:ext cx="53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naranj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orange-sl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844640"/>
            <a:ext cx="26478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971800" y="1295280"/>
          <a:ext cx="336060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95280"/>
                    <a:ext cx="33606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manza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362320" y="2057400"/>
          <a:ext cx="4478040" cy="26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47804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"/>
          <p:cNvSpPr/>
          <p:nvPr/>
        </p:nvSpPr>
        <p:spPr>
          <a:xfrm>
            <a:off x="2612880" y="502920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ceboll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1T16:47:56Z</dcterms:created>
  <dc:creator>Towson University</dc:creator>
  <dc:description/>
  <dc:language>en-US</dc:language>
  <cp:lastModifiedBy>Chris</cp:lastModifiedBy>
  <dcterms:modified xsi:type="dcterms:W3CDTF">2009-03-11T13:38:19Z</dcterms:modified>
  <cp:revision>33</cp:revision>
  <dc:subject/>
  <dc:title>No Slide Title</dc:title>
</cp:coreProperties>
</file>